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A31-E4E4-42BC-83A7-4A2D790A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F04-7E34-4583-82D4-D3AC839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879F-37D4-4379-9DCA-089948C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4AC9B-D156-402D-8EB4-58668E73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391C0-6DDC-4DD0-B3AC-C6392C71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7A8C5-B871-4DED-992D-538E79AD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05FC0-686D-44BF-89ED-15A79FA7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46B28-C05A-407A-8C94-E7A3F5D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2DF2E-6296-4FFC-8068-276C2FDB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22CB5-895D-426C-A242-0D5C3DA4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1185E-76A2-412C-9F06-389C9CE2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4C78E-DF19-4374-83E1-79B0DA6A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2F6-73B8-4C11-A2D3-4A3ABB5C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7E6EE-1BC6-46B5-BE2E-1115D60A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E09A4-12CD-4531-8685-EF07A51A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29C18-074E-4738-87F8-9A215E55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2DA40-B6DC-4C9A-A9AC-2289C67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BE109-4034-4A9C-A9CC-FA9313EA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BE612-4B9E-4A58-9A28-0F3F23F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21E3F-BC03-432A-A877-4242811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81920-E8F5-41EA-BE70-12AF652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4916A-BF8E-4483-98B7-7176AEFF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1C0A6-DC95-453A-81FA-35E2E328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CA9-ED12-458D-BCE3-2FC6E3F2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E0744-D864-40C6-A912-1D72E6C2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09570-7904-49F9-8900-CB0478E1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995F9-FF00-476F-ACCB-4064AE77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659D0-FAFB-4CCF-966B-34C7FB2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26D2D-B01D-46BF-B229-E705B80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A0EFA-1C63-4ECA-95B8-466D627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32E6-B41C-4C7E-9D6A-EC8BBCDB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99685-6A35-4848-BBE6-68D84CCC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9E6FC-4FC4-4AAE-A5BD-05F36B6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C2879-BC2F-4A4F-B997-3BD6E74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7A7E-5245-4DF7-B4D1-46274013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65F9-D216-4658-9608-FDFC6A53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2A5D2-1954-4A58-9520-FA2C1C39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91B07-01B8-4526-B928-CC9753D7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63309-09E7-4E74-9ECE-95DB4CF0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6A70F-4F07-4934-BAD5-4155954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DA4AF-412A-4C85-A9D5-E5583D2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9E24D-D602-4C65-B4C2-740B948E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35730-89CC-472C-A1C6-DE3D3517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C4B77-F456-4760-A60B-4F7C588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3A395-F0C9-490B-A325-5E16C6F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8AE-116B-4BCE-A367-7AE2BCC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1D9A1-84DF-42A7-B28D-E8874DF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70003-C2B7-4DA4-A6B3-E6FF5AA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3B421-AA29-4ED3-9AD3-97C8456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3FC1D-4E48-4F43-9611-2E75FB79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46F36-5EAB-4853-9CC5-5E429EAF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736-2611-4DEC-B233-C43D2B1E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C3F3-91A6-42D5-922B-5A581EED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08DD-43BA-49B7-A57A-DDB48240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0FF4-88BE-4926-AE2B-1AADDA35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CC14-F9A7-4D7E-8D95-E044790D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197-545E-45E9-934A-307D240C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B3E-3094-4068-9101-669D736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F94C-FB13-4163-9033-D9CB500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835A-7C6F-46DF-83CA-CA4A660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5FF8-3852-41B4-A7E9-324C6685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B0C7-0C92-45C4-A05F-640C8F19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6856-157D-4134-B6DA-717AF4D9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F403-514D-4277-86D7-CEE8472D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1FDD-FBBE-4687-AF65-AB1628CF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0571-09D1-4F37-858D-16A003B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DDD0-FFF8-4C10-90B2-B8B543E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249-059B-4C97-BAE8-A3EF7276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2F38-34A7-43B8-9498-1B02285A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1E9E-C204-4B24-8D05-AFF737D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2688-464D-4376-A3FA-EF28D06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ED29-DAC3-4B7C-8743-60F2FD2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F1F0-44D4-48F1-B9B0-441CEA1D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1B42-2743-4C45-8997-7AC84E05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6E65-DE17-4EA0-AD9F-7063DD7A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82BD-1223-49FD-9A2E-5F03AE7A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917E2-CD23-4C03-A8E2-5EF5691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457D7-1778-4722-BBAD-C58F0705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F5C-AEAE-47DC-9D52-774B08A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72F7-13D6-4199-930C-0E55FE61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882B-CDCA-43B5-9593-C4C3C8F6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CCF2-7C8A-423F-8D90-1CF3171A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679C-BB9E-4320-8335-339C244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B667-500C-43FC-82D8-1D0EBBE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D31A-9320-4B94-9747-476B570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B686-B79E-4047-B898-881930CB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F0DF-A27D-4EEA-9300-CFA15191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6102-73D4-48C1-BAB3-73C34B73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BFAB-84F2-4770-B187-3A0691FD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17E-64FC-4682-B37B-B9D4F5B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5738-4753-4EDB-8A4D-818ADA5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ED80-9FFA-4C57-B793-CD90AF45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2528-9E25-4A35-9929-D571EC6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78F89-69FD-4394-A8D9-0881BEDE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F51A-B4AE-40B3-B90E-142CEEC4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E46F-6297-4986-8D16-87AB8CFA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3E31-D174-47DC-9DAB-28CE74B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C68F-2E6E-4F64-9D4C-D5849E00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5F15-ABBD-4ADC-90F9-E0C12EC6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61C1-0102-4EB0-A815-D51719AA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23A-E979-4E32-AECD-0BD17355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9249-2E63-4E20-B3BA-DF11AB73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43FED-2D5F-4026-8EE3-8499BE0F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83BD1-3094-4A1D-AC41-637907BF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00488-328A-422A-8DC9-BBF286C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13F4-3494-4E63-8EDE-7435A6AD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57C80-402E-43A0-A3DC-B1808AC8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F2574-0C81-46F6-B98A-866B1F67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EB8A-3E25-4C63-9556-FB06165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76C9-34D4-4334-8175-7E4519C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6328-0457-4358-9CA1-56E5656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8BB-9F70-444A-83BE-AA6647E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F2A7-2BB2-4E07-A89A-65DAF7C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0950-FB75-4845-8E7F-9D594921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3BED-23B8-4DAE-A204-99930C07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37D94-A382-438D-A7C6-CC5AF89A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F6730-D64B-4D5B-8BB3-ED03D89F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FD36B-A54C-4DBD-90A0-C4C8D00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74EE4-5F6E-4741-9DEB-31612D8C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D208-8ADE-4328-ABE4-F1766CD3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3F77-CC73-45A5-8F16-FA67C45A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01C94-016D-4C61-BFFB-03C76077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545-DBC3-412E-88A9-3601EBC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6130-7C43-4555-9F0B-A7E9122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7908-E01F-4AF6-9726-ABC5022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45186-0259-4ED9-801E-AF4D6E10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416F-7D3B-493D-AF78-E6DA8799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A882-BAF4-45B3-82A9-9BB1075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0BE76-C1B6-4F35-B55F-ACFAFB6B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19AA5-2815-400E-9FE8-04ED3547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C815-AB94-4E86-AED9-F591FCAD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38D3-5968-4D6D-8DA7-51C71AA3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13D0-B143-48CB-B4CD-C2E7DC93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2D6-BE5E-4C08-AC2B-9D0D21F6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6A99-79FC-4F8D-B351-BD2F13C7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6DB60-9BF7-4935-AAFB-E2D05D0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29612-53F0-4F0D-BD8E-EBECC9C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E3E58-9FF8-45ED-8D65-2F55DB4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D157-859E-48EF-80A5-C126068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51BE-B576-4FF9-AF6B-4D41ED26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7282-C401-464B-B300-3C3A577D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759E7-54B2-489A-A834-A94DCBE6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84913-C612-4049-B196-A3CA4D51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3DA8B-840F-4117-B72B-06DACF5E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777-6618-4987-BFE4-0A16B1D15F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E352-0BC2-405B-928D-4270E3809D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F218-7ECC-4A3F-8590-4AD056428D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3921-CD2A-4EC8-9CC0-58FFE63A77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6E35-275E-4180-99DD-D388BB4DED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4FA5-138C-45DA-A6E9-6E1DB46BCC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B14-6762-4A08-98AD-D090456007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9D34-2DCD-49B5-A079-2D97DCFFF9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C677-4B6C-44AD-84D8-60434FF305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F98-689D-48AF-BAF3-B676C104C4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4EE9-9EA0-4BF1-9AD9-66420318A9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D420-560B-4E4E-A02E-93B2701815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9 Pán Boh tvoj žia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bre poz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tvoj žiaľ dobre poz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 tvojej bolesti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dí, že niečo ťa trápi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eď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ad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tebou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aždý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čas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bdie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úcit má s tebou a tú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om tvojím sa s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 všetkým obráť sa naň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omôže, veď má ťa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pri tebe blíz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očuje, ver, nie si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úžení každom ho vzý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dôverou hľa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kúškach on silu ti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lkom sa spoľahni na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 dbá o tvoje bla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s: Tvoja len vôľa sa sta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ťa miluje vrúc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, za každých okolno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a dal Syna svoj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môžeš žiť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tvoj záchranca ver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tvoj nebeský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mu prvé daj miest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raduj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ho chvá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46:51Z</dcterms:modified>
  <cp:revision>22</cp:revision>
  <dc:subject/>
  <dc:title>Je veľký náš Pán, on slávy je Kráľ Nech do všetkých strán  spev vrúcnych znie chvál.</dc:title>
</cp:coreProperties>
</file>